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F82-3ACF-4C38-A300-0FF1C639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6EA-8FAA-4931-ACA5-ABA5AD2A77C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7DF-4205-41C1-8226-E6837CDC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134-E321-428E-A540-926098A4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2A6-1C39-42C7-A0D7-FC57D02D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6BE-5035-4893-AC21-BD11D03F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3B9-A6C9-40BB-8EB5-F311B24C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A2E-6E80-40BB-988E-1874C75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578-789E-4749-ACD0-EF2E80F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E79-9ADF-4D10-B141-EFA956F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9E7-4FFE-4AD7-B36E-F329D99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E7B-7E3A-4BE7-B9EB-889500AF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3FC-3366-40F6-9088-9DF00D0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6B5-09A4-4D08-AB25-EB41518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B380-7F9E-4108-9AF5-B03FBD6CB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calvin.html" TargetMode="External"/><Relationship Id="rId2" Type="http://schemas.openxmlformats.org/officeDocument/2006/relationships/hyperlink" Target="http://highered.mcgraw-hill.com/sites/0070960526/student_view0/chapter5/animation_quiz_1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fix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P re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winkle_toes_engineering.home.comcas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---&gt; 4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12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&gt; 3 ATP + 2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8480" y="2819520"/>
            <a:ext cx="57470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king Atoms in Photosynthesis</a:t>
            </a:r>
            <a:br>
              <a:rPr sz="4000"/>
            </a:br>
            <a:br>
              <a:rPr sz="25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2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             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6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+ 6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73080" y="2673360"/>
            <a:ext cx="7199280" cy="3290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3352680" y="160020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1-03-31T22:31:14Z</dcterms:modified>
  <cp:revision>17</cp:revision>
  <dc:subject/>
  <dc:title>PowerPoint Presentation</dc:title>
</cp:coreProperties>
</file>